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CEABD-7215-4C1E-9A19-CC0CDEAE8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9"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060F6-6093-42B4-9F7E-A9E4D932F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2"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430B4-4B41-4975-9BC4-F80EC832A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7"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D6E56-9B27-4BC3-A6AE-2B1B423A9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29FF1-0B37-4394-9EDB-5CDA1D0B1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7"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4FDAF-E330-444B-8034-CA0A75291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9"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34168-1324-44E7-B9E9-EA901903A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863A4-8885-46F8-B172-A89C84075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F41B9-03B7-482C-91A6-CED6E4E11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C42B8-E122-4B84-AAEE-308DF646D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6"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F7CFA-5A4A-45C1-8DE9-2059F174E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A778-89AB-44FF-8E61-6FF822D9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0"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0EF4-E7D9-483A-A4D2-E7DF308D1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4"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C356F-FD72-43AF-B07E-3A87E5408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8"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F52FE-96EF-4C2B-88AF-7B4732A7F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1"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B25DA-462E-49BF-A275-592F507C3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6"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B4F61-8EA7-4AD7-BA11-11A6C00D5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D2EE1-4E1A-404F-941A-ACF24DDFF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2"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B2FEF-6C15-4A12-9174-0D0BFD4A6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6C861-5787-432D-BA4E-4D3308F72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536B-8247-4EC3-9073-08BB3A9A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7"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EFC0-2496-4FD7-B25C-7DFF3523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1593-0190-419E-88EC-43CFC2C2F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5"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2308-4F1A-47FC-B79F-60B0DC857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1" name="PlaceHolder 2"/>
          <p:cNvSpPr>
            <a:spLocks noGrp="1"/>
          </p:cNvSpPr>
          <p:nvPr>
            <p:ph type="body"/>
          </p:nvPr>
        </p:nvSpPr>
        <p:spPr>
          <a:xfrm>
            <a:off x="304920" y="2057040"/>
            <a:ext cx="8534160" cy="4343400"/>
          </a:xfrm>
          <a:prstGeom prst="rect">
            <a:avLst/>
          </a:prstGeom>
          <a:noFill/>
          <a:ln w="0">
            <a:noFill/>
          </a:ln>
        </p:spPr>
        <p:txBody>
          <a:bodyPr lIns="90000" rIns="90000" tIns="46800" bIns="46800" anchor="t">
            <a:normAutofit/>
          </a:bodyPr>
          <a:p>
            <a:pPr marL="343080" indent="-343080">
              <a:spcBef>
                <a:spcPts val="799"/>
              </a:spcBef>
              <a:buClr>
                <a:srgbClr val="99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43040" indent="-28584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430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574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477120"/>
            <a:ext cx="1905120" cy="3808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7120"/>
            <a:ext cx="1905120" cy="3808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BC8E-E6FC-4E2D-9188-E75E28E73B7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 name=""/>
          <p:cNvSpPr/>
          <p:nvPr/>
        </p:nvSpPr>
        <p:spPr>
          <a:xfrm>
            <a:off x="5867280" y="762120"/>
            <a:ext cx="2971800" cy="7239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7315200" y="76320"/>
            <a:ext cx="152388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solidFill>
                  <a:srgbClr val="0066cc"/>
                </a:solidFill>
                <a:effectLst>
                  <a:outerShdw dist="17819" dir="2700000" blurRad="0" rotWithShape="0">
                    <a:srgbClr val="990000"/>
                  </a:outerShdw>
                </a:effectLst>
                <a:latin typeface="Impact"/>
              </a:rPr>
              <a:t>DNPM</a:t>
            </a:r>
            <a:endParaRPr b="0" lang="en-US" sz="1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grpSp>
        <p:nvGrpSpPr>
          <p:cNvPr id="43" name=""/>
          <p:cNvGrpSpPr/>
          <p:nvPr/>
        </p:nvGrpSpPr>
        <p:grpSpPr>
          <a:xfrm>
            <a:off x="0" y="-1440"/>
            <a:ext cx="9144000" cy="6859440"/>
            <a:chOff x="0" y="-1440"/>
            <a:chExt cx="9144000" cy="6859440"/>
          </a:xfrm>
        </p:grpSpPr>
        <p:sp>
          <p:nvSpPr>
            <p:cNvPr id="44" name=""/>
            <p:cNvSpPr/>
            <p:nvPr/>
          </p:nvSpPr>
          <p:spPr>
            <a:xfrm>
              <a:off x="0" y="2895480"/>
              <a:ext cx="9144000" cy="396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548400"/>
              <a:ext cx="9144000" cy="30960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440"/>
              <a:ext cx="9144000" cy="320184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0" y="3200400"/>
              <a:ext cx="9144000" cy="414000"/>
              <a:chOff x="0" y="3200400"/>
              <a:chExt cx="9144000" cy="414000"/>
            </a:xfrm>
          </p:grpSpPr>
          <p:sp>
            <p:nvSpPr>
              <p:cNvPr id="48" name=""/>
              <p:cNvSpPr/>
              <p:nvPr/>
            </p:nvSpPr>
            <p:spPr>
              <a:xfrm>
                <a:off x="0" y="3200400"/>
                <a:ext cx="9144000" cy="1036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3040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407400"/>
                <a:ext cx="9144000" cy="1036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511080"/>
                <a:ext cx="9144000" cy="10332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09480" y="1294920"/>
            <a:ext cx="7925040" cy="156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0D1A-B4D9-4CC3-84B4-1EF76F81B8A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590560"/>
            <a:ext cx="85345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INSTÉRIO DE MINAS E ENERGIA</a:t>
            </a:r>
            <a:br>
              <a:rPr sz="1600"/>
            </a:br>
            <a:r>
              <a:rPr b="0" lang="en-US" sz="1600" spc="-1" strike="noStrike">
                <a:solidFill>
                  <a:srgbClr val="0000ff"/>
                </a:solidFill>
                <a:latin typeface="Arial"/>
              </a:rPr>
              <a:t>DEPARTAMENTO NACIONAL DE PRODUÇÃO MINERAL</a:t>
            </a:r>
            <a:r>
              <a:rPr b="0" lang="pt-BR" sz="4000" spc="-1" strike="noStrike">
                <a:solidFill>
                  <a:srgbClr val="0000ff"/>
                </a:solidFill>
                <a:latin typeface="Arial"/>
              </a:rPr>
              <a:t> </a:t>
            </a:r>
            <a:br>
              <a:rPr sz="4000"/>
            </a:br>
            <a:r>
              <a:rPr b="0" lang="pt-BR" sz="1600" spc="-1" strike="noStrike">
                <a:solidFill>
                  <a:srgbClr val="0000ff"/>
                </a:solidFill>
                <a:latin typeface="Arial"/>
              </a:rPr>
              <a:t>DIRETORIA DE FISCALIZAÇÃO</a:t>
            </a:r>
            <a:br>
              <a:rPr sz="4000"/>
            </a:br>
            <a:br>
              <a:rPr sz="4000"/>
            </a:br>
            <a:br>
              <a:rPr sz="4000"/>
            </a:br>
            <a:r>
              <a:rPr b="1" lang="pt-BR" sz="3200" spc="-1" strike="noStrike">
                <a:solidFill>
                  <a:srgbClr val="000000"/>
                </a:solidFill>
                <a:latin typeface="Comic Sans MS"/>
                <a:ea typeface="Times New Roman"/>
              </a:rPr>
              <a:t>DIRETRIZES PARA IMPLEMENTAÇÃO DE BARRAGENS DE REJEITOS/DNPM</a:t>
            </a:r>
            <a:br>
              <a:rPr sz="3200"/>
            </a:br>
            <a:r>
              <a:rPr b="0" lang="pt-BR" sz="1600" spc="-1" strike="noStrike">
                <a:solidFill>
                  <a:srgbClr val="000000"/>
                </a:solidFill>
                <a:latin typeface="Comic Sans MS"/>
              </a:rPr>
              <a:t> </a:t>
            </a:r>
            <a:br>
              <a:rPr sz="1600"/>
            </a:br>
            <a:br>
              <a:rPr sz="1600"/>
            </a:br>
            <a:br>
              <a:rPr sz="1600"/>
            </a:br>
            <a:r>
              <a:rPr b="1" lang="pt-BR" sz="1800" spc="-1" strike="noStrike">
                <a:solidFill>
                  <a:srgbClr val="000000"/>
                </a:solidFill>
                <a:latin typeface="Comic Sans MS"/>
              </a:rPr>
              <a:t>Eng. de Minas e de Segurança do Trabalho Alexandre Trajano de Arruda</a:t>
            </a:r>
            <a:br>
              <a:rPr sz="4400"/>
            </a:br>
            <a:r>
              <a:rPr b="1" lang="pt-BR" sz="1600" spc="-1" strike="noStrike">
                <a:solidFill>
                  <a:srgbClr val="000000"/>
                </a:solidFill>
                <a:latin typeface="Arial"/>
              </a:rPr>
              <a:t>S</a:t>
            </a:r>
            <a:r>
              <a:rPr b="1" lang="pt-BR" sz="1800" spc="-1" strike="noStrike">
                <a:solidFill>
                  <a:srgbClr val="000000"/>
                </a:solidFill>
                <a:latin typeface="Comic Sans MS"/>
              </a:rPr>
              <a:t>etor de Normas da DIFIS/DNPM</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II - </a:t>
            </a:r>
            <a:r>
              <a:rPr b="1" lang="pt-BR" sz="3200" spc="-1" strike="noStrike">
                <a:solidFill>
                  <a:srgbClr val="000000"/>
                </a:solidFill>
                <a:latin typeface="Comic Sans MS"/>
                <a:ea typeface="Times New Roman"/>
              </a:rPr>
              <a:t>CONCEITOS IMPORTANTES NO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CONTROLE E FISCALIZAÇÃO DE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2"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É MONITORAMENT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0" lang="pt-BR" sz="2800" spc="-1" strike="noStrike">
                <a:solidFill>
                  <a:srgbClr val="000000"/>
                </a:solidFill>
                <a:latin typeface="Comic Sans MS"/>
                <a:ea typeface="Times New Roman"/>
              </a:rPr>
              <a:t>auscultação)</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É o processo de observação, detecção e caracterização de eventuais deteriorações que constituem risco potencial às condições de segurança da barragem.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4"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Metodologi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trument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través de aquisição, registro e processamento sistemático dos dados obtidos a partir dos instrumentos de medida instalados em uma estrutur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peções Visu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om auscultação qualitativa, através de vistorias periódicas ao camp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 É CONTROL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É o processo de observação, análise, diagnóstico e previsão do desempenho do comportamento de uma estrutura ao longo de sua vida útil, incluindo a fase de abandono, propiciando subsídios para uma eventual revisão ou adaptação dos procedimentos de sua operação, manutenção ou auscultação, permitindo ainda verificar se uma dada condição de risco está se desenvolvendo ou se é potencialmente viável de ocorrer.</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Controle é o gerenciamento do monitorament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NDO E POR QUE REALIZAR MONITORAMENTO?</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Quand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constru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opera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abandon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Obs.:</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Estudos recentes mostram que um número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expressivo de barragens de rejeitos que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sofreram rupturas ou acidentes graves era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constituído por estruturas já desativadas.</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Por que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 gestão dos riscos associados a eventuais rupturas ou acidentes graves em sistemas de disposição de rejeitos é um componente critico para a sustentabilidade da atividade de mineração (inviabilização do projeto);</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Os riscos destes empreendimentos crescem exponencialmente (a cada 10 anos, os volumes de rejeitos acumulados duplicam e a altura das barragens cresce 40% com alturas já superiores a 250m);</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s estruturas em operação refletem potenciais erros ou deficiências de projeto ou de sua construçã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4"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 UMA BARRAGEM BEM INSTRUMENT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lano de instrumentação foi elaborado por um especialista familiarizado com o projeto e suas condicionante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selecionados por um especialista em instrumentação geotécnic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confeccionados e calibrados sob supervisão adequad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instalação dos instrumentos foi feita por equipes experientes de campo;</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Foram estabelecidas prescrições adequadas para os procedimentos da aquisição, registro e apresentação dos dad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ão realizados regularmente procedimentos de reavaliação e manutenção dos instrument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534520" cy="144756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8" name="PlaceHolder 2"/>
          <p:cNvSpPr>
            <a:spLocks noGrp="1"/>
          </p:cNvSpPr>
          <p:nvPr>
            <p:ph/>
          </p:nvPr>
        </p:nvSpPr>
        <p:spPr>
          <a:xfrm>
            <a:off x="228240" y="1218960"/>
            <a:ext cx="8534520" cy="43434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a:t>
            </a: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UMA BARRAGEM BEM CONTROL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9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CONTEÚDO:</a:t>
            </a:r>
            <a:endParaRPr b="0" lang="en-US" sz="2000" spc="-1" strike="noStrike">
              <a:solidFill>
                <a:srgbClr val="000000"/>
              </a:solidFill>
              <a:latin typeface="Arial Black"/>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I  -AÇÕES  DNPM NO </a:t>
            </a:r>
            <a:r>
              <a:rPr b="1" lang="en-US" sz="2000" spc="-1" strike="noStrike">
                <a:solidFill>
                  <a:srgbClr val="000000"/>
                </a:solidFill>
                <a:latin typeface="Comic Sans MS"/>
                <a:ea typeface="Times New Roman"/>
              </a:rPr>
              <a:t>C</a:t>
            </a:r>
            <a:r>
              <a:rPr b="1" lang="pt-BR" sz="2000" spc="-1" strike="noStrike">
                <a:solidFill>
                  <a:srgbClr val="000000"/>
                </a:solidFill>
                <a:latin typeface="Comic Sans MS"/>
                <a:ea typeface="Times New Roman"/>
              </a:rPr>
              <a:t>ONTROLE E  FISCALIZAÇÃO DE </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 NA MINERAÇÃO.</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 - </a:t>
            </a:r>
            <a:r>
              <a:rPr b="1" lang="pt-BR" sz="2000" spc="-1" strike="noStrike">
                <a:solidFill>
                  <a:srgbClr val="000000"/>
                </a:solidFill>
                <a:latin typeface="Comic Sans MS"/>
                <a:ea typeface="Times New Roman"/>
              </a:rPr>
              <a:t>CONCEITOS IMPORTANTES NO CONTROLE E FISCALIZAÇÃO DE</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I - DESTAQUES DA NRM - 19</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V - PARA REFLEXÃO :</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	</a:t>
            </a:r>
            <a:r>
              <a:rPr b="1" i="1" lang="pt-BR" sz="2000" spc="-1" strike="noStrike">
                <a:solidFill>
                  <a:srgbClr val="000000"/>
                </a:solidFill>
                <a:latin typeface="Comic Sans MS"/>
              </a:rPr>
              <a:t>REPERCUSSÃO NA MÍDIA DE UM ACIDENTE GRAVE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COM BARRAGEM</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45720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30"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análise dos dados da instrumentação é feita concomitantemente com a execução das leitura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rocessamento dos dados é realizado por uma equipe técnica treinada e especializada;</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dados obtidos são continuamente correlacionados com os parâmetros adotados em projeto;</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lores limites são disponíveis para detecção imediata de eventuais anomalias/desvios dos valores admissívei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Inspeções de campo são feitas periodicamente e são interpretadas como atividades indissociáveis e complementares às análises dos dados da instrumentação.</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2"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MONITORAMENTO POR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Quais são os objetivos da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O que deve ser medid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omo o monitoramento pode ser realizad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4" name="PlaceHolder 2"/>
          <p:cNvSpPr>
            <a:spLocks noGrp="1"/>
          </p:cNvSpPr>
          <p:nvPr>
            <p:ph/>
          </p:nvPr>
        </p:nvSpPr>
        <p:spPr>
          <a:xfrm>
            <a:off x="228240" y="1218960"/>
            <a:ext cx="8534520" cy="518148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CONSTRUTIVA</a:t>
            </a:r>
            <a:endParaRPr b="0" lang="en-US" sz="2400" spc="-1" strike="noStrike">
              <a:solidFill>
                <a:srgbClr val="000000"/>
              </a:solidFill>
              <a:latin typeface="Arial Black"/>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 </a:t>
            </a:r>
            <a:endParaRPr b="0" lang="en-US" sz="20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btenção de parâmetros geotécnicos mais realistas e representativos das condições in situ;</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ferição de soluções técnicas menos conservadoras adotadas na fase de projeto, que resultaram em economia significativa para a obra;</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visão de possíveis zonas de risco durante a fase de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durante a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sibilidade de revisões ou reavaliações das premissas de projeto ou das metodologias construtivas então adotadas.</a:t>
            </a:r>
            <a:endParaRPr b="0" lang="en-US" sz="2400" spc="-1" strike="noStrike">
              <a:solidFill>
                <a:srgbClr val="000000"/>
              </a:solidFill>
              <a:latin typeface="Arial Black"/>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3000"/>
          </a:bodyPr>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TIVOS BÁSICOS DA INSTRUMENTAÇÃO NA FASE OPERACIONAL</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cação do desempenho geral da estrutura em conformidade ou não com as especificações de projet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cterização do comportamento dos rejeitos, estéreis e materiais dos aterros compactados e das fundações ao longo do tempo, monitorando a evolução das tensões, deslocamentos, vazões e pressões;</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são de possíveis zonas de risco durante o período de opera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liação de eventos não previstos ou detecção de eventuais anomalias pós-constru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valiação das condições de segurança da estrutura e/ou alterações ou extrapolações do projeto original.</a:t>
            </a:r>
            <a:endParaRPr b="0" lang="en-US" sz="2400" spc="-1" strike="noStrike">
              <a:solidFill>
                <a:srgbClr val="000000"/>
              </a:solidFill>
              <a:latin typeface="Arial Black"/>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DE ABANDO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Garantia da estabilidade do empreendimento após desativ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ubsídios para obras de reintegração da estrutura com o meio ambiente local;</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pós-operaçã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 QUE DEVE SER MEDID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zõ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ições do NA do terre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Quantidade de sólidos carreado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vertic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horizon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Tensões to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ssões</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1760"/>
            <a:ext cx="8534520" cy="68580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br>
              <a:rPr sz="4000"/>
            </a:br>
            <a:r>
              <a:rPr b="1" lang="en-US" sz="4000" spc="-1" strike="noStrike">
                <a:solidFill>
                  <a:srgbClr val="000000"/>
                </a:solidFill>
                <a:latin typeface="Times New Roman"/>
              </a:rPr>
              <a:t> </a:t>
            </a:r>
            <a:endParaRPr b="0" lang="en-US" sz="4000" spc="-1" strike="noStrike">
              <a:solidFill>
                <a:srgbClr val="0000ff"/>
              </a:solidFill>
              <a:latin typeface="Arial"/>
            </a:endParaRPr>
          </a:p>
        </p:txBody>
      </p:sp>
      <p:sp>
        <p:nvSpPr>
          <p:cNvPr id="14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III - DESTAQUES DA NRM - 19</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DISPOSIÇÃO DE ESTÉRIL,</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REJEITOS E  PRODUTOS</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Apresentação do Projeto ao DNPM</a:t>
            </a: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 disposição de rejeitos deve ser prevista no Plano de Lavra – PL.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6"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Planejamento e RT</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Os projetos devem ser planejados e implementados por profissional legalmente habilitad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A construção de barramento para acumulação de rejeitos líquidos deve ser precedida de projeto técnic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Times New Roman"/>
                <a:ea typeface="Times New Roman"/>
              </a:rPr>
              <a:t>     </a:t>
            </a:r>
            <a:r>
              <a:rPr b="0" lang="pt-BR"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Deve constar no projeto técnico estudo que caracterize aspectos sobre:</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a:t>
            </a:r>
            <a:r>
              <a:rPr b="0" lang="pt-BR" sz="2400" spc="-1" strike="noStrike">
                <a:solidFill>
                  <a:srgbClr val="000000"/>
                </a:solidFill>
                <a:latin typeface="Comic Sans MS"/>
                <a:ea typeface="Times New Roman"/>
              </a:rPr>
              <a:t>localização do barramento contemplando: a bacia  hidrográfica, a geologia,  topografia, etc., suas implicações sociais e análise econômic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b) geotecnia, hidrologia e hidrogeologi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c)</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impermeabilização da base, quando couber;</a:t>
            </a:r>
            <a:endParaRPr b="0" lang="en-US" sz="24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 caracterização do material a ser retido no barramento e da sua construção</a:t>
            </a:r>
            <a:r>
              <a:rPr b="0" lang="pt-BR" sz="1800" spc="-1" strike="noStrike">
                <a:solidFill>
                  <a:srgbClr val="000000"/>
                </a:solidFill>
                <a:latin typeface="Times New Roman"/>
                <a:ea typeface="Times New Roman"/>
              </a:rPr>
              <a:t>;</a:t>
            </a:r>
            <a:endParaRPr b="0" lang="en-US" sz="1800" spc="-1" strike="noStrike">
              <a:solidFill>
                <a:srgbClr val="000000"/>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I-</a:t>
            </a:r>
            <a:r>
              <a:rPr b="1" lang="pt-BR" sz="3200" spc="-1" strike="noStrike">
                <a:solidFill>
                  <a:srgbClr val="000000"/>
                </a:solidFill>
                <a:latin typeface="Comic Sans MS"/>
                <a:ea typeface="Times New Roman"/>
              </a:rPr>
              <a:t>AÇÕES  DNPM NO </a:t>
            </a:r>
            <a:r>
              <a:rPr b="1" lang="en-US" sz="3200" spc="-1" strike="noStrike">
                <a:solidFill>
                  <a:srgbClr val="000000"/>
                </a:solidFill>
                <a:latin typeface="Comic Sans MS"/>
                <a:ea typeface="Times New Roman"/>
              </a:rPr>
              <a:t>C</a:t>
            </a:r>
            <a:r>
              <a:rPr b="1" lang="pt-BR" sz="3200" spc="-1" strike="noStrike">
                <a:solidFill>
                  <a:srgbClr val="000000"/>
                </a:solidFill>
                <a:latin typeface="Comic Sans MS"/>
                <a:ea typeface="Times New Roman"/>
              </a:rPr>
              <a:t>ONTROLE E FISCALIZAÇÃO DE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 NA MINERAÇÃO.</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0"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scrição do barramento e dimensionamento das ob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valiação dos impactos ambientais e medidas mitigado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o barramento e efluent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r>
              <a:rPr b="0" lang="pt-BR" sz="2400" spc="-1" strike="noStrike">
                <a:solidFill>
                  <a:srgbClr val="000000"/>
                </a:solidFill>
                <a:latin typeface="Comic Sans MS"/>
                <a:ea typeface="Times New Roman"/>
              </a:rPr>
              <a:t>)    medidas de abandono do barramento e uso futuro e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ronograma físico e financeir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na Fase de Construçã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construídos com dispositivos de drenagem interna de forma que não permitam a saturação do maciço. </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caso de colapso dessas estruturas, os fatores de segurança devem ser suficientes para que se possa intervir e corrigir o problema.</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urante o alteamento deve ser feito o monitoramento da estabilidade do maciço e dos impactos ao meio ambiente.</a:t>
            </a:r>
            <a:endParaRPr b="0" lang="en-US" sz="2400" spc="-1" strike="noStrike">
              <a:solidFill>
                <a:srgbClr val="0000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4" name="PlaceHolder 2"/>
          <p:cNvSpPr>
            <a:spLocks noGrp="1"/>
          </p:cNvSpPr>
          <p:nvPr>
            <p:ph/>
          </p:nvPr>
        </p:nvSpPr>
        <p:spPr>
          <a:xfrm>
            <a:off x="228240" y="1371240"/>
            <a:ext cx="8534520" cy="43434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Situação de grave e iminente risco</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Em situações de risco grave e iminente de ruptura de barragens e taludes, as áreas de risco devem ser evacuadas, isoladas e a evolução do processo monitorada e todo o pessoal potencialmente afetado deve ser informado imediatamente.</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Deve ser elaborado plano de contingência para fazer face a essa possibilidade.</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6"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Exigências de Supervisão e Monitoramento do Barramento</a:t>
            </a:r>
            <a:endParaRPr b="0" lang="en-US" sz="28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Supervisão  de profissional habilitado;</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a percolação de água, da movimentação e estabilidade do maciço, e do comprometimento do lençol freático;</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Courier New"/>
              </a:rPr>
              <a:t>¨</a:t>
            </a:r>
            <a:r>
              <a:rPr b="0" lang="pt-BR" sz="2400" spc="-1" strike="noStrike">
                <a:solidFill>
                  <a:srgbClr val="000000"/>
                </a:solidFill>
                <a:latin typeface="Comic Sans MS"/>
                <a:ea typeface="Times New Roman"/>
              </a:rPr>
              <a:t>  Controle periódico do barramento e suas instalações;</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Monitoramento constante, de forma que permita prever o nível de qualidade dos efluentes e as situações de riscos.</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para a Modificações no Projeto </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ão devem ser promovidas modificações dos locais e nas metodologias de disposição sem prévia comunicação, devidamente documentada, ao DNPM.</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0"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Exigências para a Disposição dos Rejeitos</a:t>
            </a:r>
            <a:endParaRPr b="0" lang="en-US" sz="2400" spc="-1" strike="noStrike">
              <a:solidFill>
                <a:srgbClr val="000000"/>
              </a:solidFill>
              <a:latin typeface="Arial Black"/>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endParaRPr b="0" lang="en-US" sz="18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dotar medidas para evitar o arraste de sólidos para o interior de rios, lagos ou outros cursos de água;</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Próximo às áreas urbanas devem ser atendidos os critérios estabelecidos pela legislação vigente e garantida a mitigação dos impactos ambientais;</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áreas de disposição de rejeitos tóxicos ou perigosos, mesmo depois de recuperadas, ficam proibidas edificações de qualquer natureza sem prévia e expressa autorização da autoridade competente;</a:t>
            </a:r>
            <a:r>
              <a:rPr b="0" lang="pt-BR" sz="2400" spc="-1" strike="noStrike">
                <a:solidFill>
                  <a:srgbClr val="000000"/>
                </a:solidFill>
                <a:latin typeface="Comic Sans MS"/>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7000"/>
          </a:bodyPr>
          <a:p>
            <a:pPr marL="298440" indent="-298440" algn="just">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a a</a:t>
            </a:r>
            <a:r>
              <a:rPr b="0" lang="pt-BR" sz="2400" spc="-1" strike="noStrike">
                <a:solidFill>
                  <a:srgbClr val="000000"/>
                </a:solidFill>
                <a:latin typeface="Comic Sans MS"/>
                <a:ea typeface="Times New Roman"/>
              </a:rPr>
              <a:t> disposição de rejeitos sobre drenagens, cursos d’água e nascentes, deve ser realizado estudo técnico que avalie o impacto sobre os recursos hídricos;</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Quando localizada em áreas a montante de captação de água, sua construção deve garantir a preservação da citada captação;</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 estar dentro dos limites autorizados do empreendimento e;</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700"/>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tomadas medidas técnicas e de segurança que permitam prever situações de risco.</a:t>
            </a:r>
            <a:r>
              <a:rPr b="0" lang="pt-BR" sz="2800" spc="-1" strike="noStrike">
                <a:solidFill>
                  <a:srgbClr val="000000"/>
                </a:solidFill>
                <a:latin typeface="Times New Roman"/>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IV - PARA REFLEX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REPERCUSSÃO NA MÍDIA DE UM ACIDENTE GRAVE COM BARRAGEM</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Manchetes :</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ta ação das autoridades para evitar novos desastr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núncias de outros acident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ás dos mort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iscalização é defici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sco de deslizament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gens de minério são um perigo desconhecid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 lembra de outro acid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fiscalização, geólogo prevê novas catástrof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ombeiros só encontram destroç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 paralisada</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ão interditada por desastre ecológico</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8"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Outras Manchet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rregularidade era conhecida a mes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triste horizo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s ignoram normas de seguran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elho cobra projeto executivo</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peção precária estimula atividad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minui a esperança de encontrar corpo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PI investiga mineradora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es pretendem acionar justi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ha humana é causa de acide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istério Público inicia apuração da tragédi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ões desativadas viram terra de ninguém</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ó manutenção garantem segurança de barragens</a:t>
            </a:r>
            <a:endParaRPr b="0" lang="en-US" sz="2400" spc="-1" strike="noStrike">
              <a:solidFill>
                <a:srgbClr val="000000"/>
              </a:solidFill>
              <a:latin typeface="Arial Black"/>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457200"/>
            <a:ext cx="8001000" cy="5335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8" name="PlaceHolder 2"/>
          <p:cNvSpPr>
            <a:spLocks noGrp="1"/>
          </p:cNvSpPr>
          <p:nvPr>
            <p:ph/>
          </p:nvPr>
        </p:nvSpPr>
        <p:spPr>
          <a:xfrm>
            <a:off x="304920" y="1295280"/>
            <a:ext cx="8534160" cy="47246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ea typeface="Times New Roman"/>
              </a:rPr>
              <a:t>1. Implantação de mecanismos:</a:t>
            </a:r>
            <a:endParaRPr b="0" lang="en-US" sz="40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NRM;</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MANUAL DE FISCALIZAÇÃO;</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APACITAÇÃO;</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1-</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NORMAS REGULADORAS DA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MINERAÇÃO REGULAMENTA (N</a:t>
            </a:r>
            <a:r>
              <a:rPr b="0" lang="en-US" sz="3200" spc="-1" strike="noStrike">
                <a:solidFill>
                  <a:srgbClr val="000000"/>
                </a:solidFill>
                <a:latin typeface="Comic Sans MS"/>
                <a:ea typeface="Times New Roman"/>
              </a:rPr>
              <a:t>RM</a:t>
            </a:r>
            <a:r>
              <a:rPr b="0" lang="pt-BR" sz="3200" spc="-1" strike="noStrike">
                <a:solidFill>
                  <a:srgbClr val="000000"/>
                </a:solidFill>
                <a:latin typeface="Comic Sans MS"/>
                <a:ea typeface="Times New Roman"/>
              </a:rPr>
              <a:t> 19):</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a:t>
            </a:r>
            <a:r>
              <a:rPr b="0" lang="pt-BR" sz="3200" spc="-1" strike="noStrike">
                <a:solidFill>
                  <a:srgbClr val="000000"/>
                </a:solidFill>
                <a:latin typeface="Comic Sans MS"/>
                <a:ea typeface="Times New Roman"/>
              </a:rPr>
              <a:t>provação de projeto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a:t>
            </a:r>
            <a:r>
              <a:rPr b="0" lang="pt-BR" sz="3200" spc="-1" strike="noStrike">
                <a:solidFill>
                  <a:srgbClr val="000000"/>
                </a:solidFill>
                <a:latin typeface="Comic Sans MS"/>
                <a:ea typeface="Times New Roman"/>
              </a:rPr>
              <a:t> Supervisão e monitorament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porte a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ntrole dos impactos ambientai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evenção de acidente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Desativação da min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2" name="PlaceHolder 2"/>
          <p:cNvSpPr>
            <a:spLocks noGrp="1"/>
          </p:cNvSpPr>
          <p:nvPr>
            <p:ph/>
          </p:nvPr>
        </p:nvSpPr>
        <p:spPr>
          <a:xfrm>
            <a:off x="304920" y="1752480"/>
            <a:ext cx="8534160" cy="4648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2-    MANUAL DE FISCALIZAÇÃ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move a unidade;</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 o process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fissionaliza a atuaçã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4" name="PlaceHolder 2"/>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3-</a:t>
            </a:r>
            <a:r>
              <a:rPr b="0" lang="pt-BR" sz="3200" spc="-1" strike="noStrike">
                <a:solidFill>
                  <a:srgbClr val="000000"/>
                </a:solidFill>
                <a:latin typeface="Times New Roman"/>
                <a:ea typeface="Times New Roman"/>
              </a:rPr>
              <a:t> </a:t>
            </a:r>
            <a:r>
              <a:rPr b="0" lang="pt-BR" sz="3200" spc="-1" strike="noStrike">
                <a:solidFill>
                  <a:srgbClr val="000000"/>
                </a:solidFill>
                <a:latin typeface="Comic Sans MS"/>
                <a:ea typeface="Times New Roman"/>
              </a:rPr>
              <a:t>CAPACITAÇ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Informação;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ment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Reciclagem.</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6" name="PlaceHolder 2"/>
          <p:cNvSpPr>
            <a:spLocks noGrp="1"/>
          </p:cNvSpPr>
          <p:nvPr>
            <p:ph/>
          </p:nvPr>
        </p:nvSpPr>
        <p:spPr>
          <a:xfrm>
            <a:off x="380520" y="1599840"/>
            <a:ext cx="853452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Realização de diagnósticos</a:t>
            </a:r>
            <a:r>
              <a:rPr b="1" lang="pt-BR" sz="3600" spc="-1" strike="noStrike">
                <a:solidFill>
                  <a:srgbClr val="000000"/>
                </a:solidFill>
                <a:latin typeface="Comic Sans MS"/>
              </a:rPr>
              <a:t> </a:t>
            </a:r>
            <a:endParaRPr b="0" lang="en-US" sz="3600" spc="-1" strike="noStrike">
              <a:solidFill>
                <a:srgbClr val="0000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nt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l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bsidiar decisões, e</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Priorizar ações de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Fiscalização de empreendimentos minerais</a:t>
            </a: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0" lang="en-US" sz="3200" spc="-1" strike="noStrike">
                <a:solidFill>
                  <a:srgbClr val="000000"/>
                </a:solidFill>
                <a:latin typeface="Comic Sans MS"/>
              </a:rPr>
              <a:t>-    Conforme programação de rotina</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m</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rticulação</a:t>
            </a:r>
            <a:r>
              <a:rPr b="1"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m outras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ntidades;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tendimento a denúncia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08:59:00Z</dcterms:created>
  <dc:creator/>
  <dc:description/>
  <dc:language>en-US</dc:language>
  <cp:lastModifiedBy>SRH</cp:lastModifiedBy>
  <cp:lastPrinted>2002-09-27T22:20:58Z</cp:lastPrinted>
  <dcterms:modified xsi:type="dcterms:W3CDTF">2003-06-17T12:34:45Z</dcterms:modified>
  <cp:revision>93</cp:revision>
  <dc:subject/>
  <dc:title>Teste Profissional</dc:title>
</cp:coreProperties>
</file>